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2F18-35BF-4D6F-B535-84EB128BF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B0B4-5F4E-4ADD-9607-6B9163BF0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6EC7-D1AA-4A23-B086-45BEF962B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CDDA-25D9-48FF-A7D7-4F8226EE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4789-B96F-46CE-851B-C6170E83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9C3D-324F-4E7F-9AEF-CA39FFBA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85C3-38B7-4947-B43C-F06C02FE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D25-C1A8-4D8F-95BA-60026BAC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85C-5541-47A5-A62A-6857C6DA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8CA-6C17-4965-9724-58EFC293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9056-78FC-414C-AE67-51D4E3B6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3512-1493-4B22-8928-5F70546C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E5B-BB47-490D-AFB6-F4EF4F2D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66E-C9F4-4F09-9E3F-55CAB4A7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B4C1-074D-4700-87DE-1A38B000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BBEC-5FE2-4B59-A13D-13E10B633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55640" y="1294560"/>
            <a:ext cx="64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valuating Algebraic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>
            <a:off x="5867280" y="6165720"/>
            <a:ext cx="757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firstslide"/>
          </p:cNvPr>
          <p:cNvSpPr/>
          <p:nvPr/>
        </p:nvSpPr>
        <p:spPr>
          <a:xfrm>
            <a:off x="6877080" y="6165720"/>
            <a:ext cx="100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previousslide"/>
          </p:cNvPr>
          <p:cNvSpPr/>
          <p:nvPr/>
        </p:nvSpPr>
        <p:spPr>
          <a:xfrm>
            <a:off x="4824360" y="6165720"/>
            <a:ext cx="792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" action="ppaction://hlinkshowjump?jump=endshow"/>
          </p:cNvPr>
          <p:cNvSpPr/>
          <p:nvPr/>
        </p:nvSpPr>
        <p:spPr>
          <a:xfrm>
            <a:off x="8064360" y="6181560"/>
            <a:ext cx="82872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95840" y="-7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4-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066680" y="133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stimating Square R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1219320"/>
            <a:ext cx="76197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Verdana"/>
              </a:rPr>
              <a:t>Math fa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Verdana"/>
              </a:rPr>
              <a:t>The sum of any number of consecutive odd whole numbers, beginning with 1, is a perfect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Verdana"/>
              </a:rPr>
              <a:t>e.g. 1+3=4, 1+3+5=9, 1+3+5+7=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Estimating Square Roots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680" y="1295280"/>
            <a:ext cx="80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  55 is between two integers. Name the integers. Explain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46400" y="2666880"/>
            <a:ext cx="53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List perfect squares near 5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2840" y="266688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, 49, 64,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286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9 &lt; 55 &lt;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0000" y="3962520"/>
            <a:ext cx="567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Find the square roots of the perfect squ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62120" y="2133720"/>
            <a:ext cx="965160" cy="459720"/>
            <a:chOff x="762120" y="2133720"/>
            <a:chExt cx="965160" cy="459720"/>
          </a:xfrm>
        </p:grpSpPr>
        <p:sp>
          <p:nvSpPr>
            <p:cNvPr id="64" name=""/>
            <p:cNvSpPr/>
            <p:nvPr/>
          </p:nvSpPr>
          <p:spPr>
            <a:xfrm>
              <a:off x="941400" y="2133720"/>
              <a:ext cx="7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762120" y="2189160"/>
              <a:ext cx="731520" cy="285480"/>
              <a:chOff x="762120" y="2189160"/>
              <a:chExt cx="731520" cy="285480"/>
            </a:xfrm>
          </p:grpSpPr>
          <p:sp>
            <p:nvSpPr>
              <p:cNvPr id="66" name=""/>
              <p:cNvSpPr/>
              <p:nvPr/>
            </p:nvSpPr>
            <p:spPr>
              <a:xfrm>
                <a:off x="791640" y="2267640"/>
                <a:ext cx="102960" cy="20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762120" y="2260080"/>
                <a:ext cx="35280" cy="30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890280" y="2189160"/>
                <a:ext cx="157680" cy="285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044360" y="2192760"/>
                <a:ext cx="449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838080" y="5197320"/>
            <a:ext cx="7758000" cy="825480"/>
            <a:chOff x="838080" y="5197320"/>
            <a:chExt cx="7758000" cy="825480"/>
          </a:xfrm>
        </p:grpSpPr>
        <p:sp>
          <p:nvSpPr>
            <p:cNvPr id="71" name=""/>
            <p:cNvSpPr/>
            <p:nvPr/>
          </p:nvSpPr>
          <p:spPr>
            <a:xfrm>
              <a:off x="1022040" y="5197320"/>
              <a:ext cx="757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5  is between 7 and 8 because 55 is between 49 and 64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838080" y="5278320"/>
              <a:ext cx="763920" cy="285840"/>
              <a:chOff x="838080" y="5278320"/>
              <a:chExt cx="763920" cy="285840"/>
            </a:xfrm>
          </p:grpSpPr>
          <p:sp>
            <p:nvSpPr>
              <p:cNvPr id="73" name=""/>
              <p:cNvSpPr/>
              <p:nvPr/>
            </p:nvSpPr>
            <p:spPr>
              <a:xfrm>
                <a:off x="869040" y="5356800"/>
                <a:ext cx="107640" cy="20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838080" y="5348880"/>
                <a:ext cx="36720" cy="30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971640" y="5278320"/>
                <a:ext cx="164520" cy="28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132920" y="5281560"/>
                <a:ext cx="469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1371240" y="1352520"/>
            <a:ext cx="609480" cy="285840"/>
            <a:chOff x="1371240" y="1352520"/>
            <a:chExt cx="609480" cy="285840"/>
          </a:xfrm>
        </p:grpSpPr>
        <p:sp>
          <p:nvSpPr>
            <p:cNvPr id="78" name=""/>
            <p:cNvSpPr/>
            <p:nvPr/>
          </p:nvSpPr>
          <p:spPr>
            <a:xfrm>
              <a:off x="1396080" y="1431000"/>
              <a:ext cx="85680" cy="20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1371240" y="1423080"/>
              <a:ext cx="29160" cy="3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478160" y="1352520"/>
              <a:ext cx="131400" cy="28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06680" y="1355760"/>
              <a:ext cx="37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124080" y="3276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Find the perfect squares nearest 5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61760" y="3984480"/>
            <a:ext cx="2895480" cy="459720"/>
            <a:chOff x="761760" y="3984480"/>
            <a:chExt cx="2895480" cy="459720"/>
          </a:xfrm>
        </p:grpSpPr>
        <p:grpSp>
          <p:nvGrpSpPr>
            <p:cNvPr id="84" name=""/>
            <p:cNvGrpSpPr/>
            <p:nvPr/>
          </p:nvGrpSpPr>
          <p:grpSpPr>
            <a:xfrm>
              <a:off x="761760" y="4051080"/>
              <a:ext cx="533160" cy="285840"/>
              <a:chOff x="761760" y="4051080"/>
              <a:chExt cx="533160" cy="285840"/>
            </a:xfrm>
          </p:grpSpPr>
          <p:sp>
            <p:nvSpPr>
              <p:cNvPr id="85" name=""/>
              <p:cNvSpPr/>
              <p:nvPr/>
            </p:nvSpPr>
            <p:spPr>
              <a:xfrm>
                <a:off x="783720" y="4129560"/>
                <a:ext cx="74880" cy="20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761760" y="4121640"/>
                <a:ext cx="25560" cy="30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855360" y="4051080"/>
                <a:ext cx="114840" cy="28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67680" y="4054320"/>
                <a:ext cx="327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838080" y="39844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9 &lt;  55 &lt;  6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1694880" y="4051080"/>
              <a:ext cx="533160" cy="285840"/>
              <a:chOff x="1694880" y="4051080"/>
              <a:chExt cx="533160" cy="285840"/>
            </a:xfrm>
          </p:grpSpPr>
          <p:sp>
            <p:nvSpPr>
              <p:cNvPr id="91" name=""/>
              <p:cNvSpPr/>
              <p:nvPr/>
            </p:nvSpPr>
            <p:spPr>
              <a:xfrm>
                <a:off x="1716840" y="4129560"/>
                <a:ext cx="74880" cy="20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1694880" y="4121640"/>
                <a:ext cx="25560" cy="30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1788480" y="4051080"/>
                <a:ext cx="114840" cy="28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00800" y="4054320"/>
                <a:ext cx="327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2666520" y="4051080"/>
              <a:ext cx="533160" cy="285840"/>
              <a:chOff x="2666520" y="4051080"/>
              <a:chExt cx="533160" cy="285840"/>
            </a:xfrm>
          </p:grpSpPr>
          <p:sp>
            <p:nvSpPr>
              <p:cNvPr id="96" name=""/>
              <p:cNvSpPr/>
              <p:nvPr/>
            </p:nvSpPr>
            <p:spPr>
              <a:xfrm>
                <a:off x="2688480" y="4129560"/>
                <a:ext cx="74880" cy="20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2666520" y="4121640"/>
                <a:ext cx="25560" cy="30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2760120" y="4051080"/>
                <a:ext cx="114840" cy="28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872440" y="4054320"/>
                <a:ext cx="327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590400" y="4648320"/>
            <a:ext cx="2819520" cy="459720"/>
            <a:chOff x="590400" y="4648320"/>
            <a:chExt cx="2819520" cy="459720"/>
          </a:xfrm>
        </p:grpSpPr>
        <p:sp>
          <p:nvSpPr>
            <p:cNvPr id="101" name=""/>
            <p:cNvSpPr/>
            <p:nvPr/>
          </p:nvSpPr>
          <p:spPr>
            <a:xfrm>
              <a:off x="590400" y="46483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7 &lt;   55 &lt;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1476000" y="4714920"/>
              <a:ext cx="533160" cy="285480"/>
              <a:chOff x="1476000" y="4714920"/>
              <a:chExt cx="533160" cy="285480"/>
            </a:xfrm>
          </p:grpSpPr>
          <p:sp>
            <p:nvSpPr>
              <p:cNvPr id="103" name=""/>
              <p:cNvSpPr/>
              <p:nvPr/>
            </p:nvSpPr>
            <p:spPr>
              <a:xfrm>
                <a:off x="1497960" y="4793400"/>
                <a:ext cx="74880" cy="20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1476000" y="4785840"/>
                <a:ext cx="25560" cy="30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1569600" y="4714920"/>
                <a:ext cx="114840" cy="285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81920" y="4718520"/>
                <a:ext cx="327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3360" y="6843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Approximating Square Roots to the Nearest Hundre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520" y="270504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1 &l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35 &lt; 1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6880" y="3146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0200" y="5516640"/>
            <a:ext cx="641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hole number part of the answer is 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7080" y="269712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Find the perfect squares nearest 1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35514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Find the square roots of the perfect squ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05280" y="3573360"/>
            <a:ext cx="2971080" cy="481680"/>
            <a:chOff x="305280" y="3573360"/>
            <a:chExt cx="2971080" cy="481680"/>
          </a:xfrm>
        </p:grpSpPr>
        <p:sp>
          <p:nvSpPr>
            <p:cNvPr id="114" name=""/>
            <p:cNvSpPr/>
            <p:nvPr/>
          </p:nvSpPr>
          <p:spPr>
            <a:xfrm>
              <a:off x="305280" y="3581280"/>
              <a:ext cx="137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1 &lt;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88080" y="3595320"/>
              <a:ext cx="12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5 &lt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579680" y="3649320"/>
              <a:ext cx="461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32800" y="3581280"/>
              <a:ext cx="94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1560" y="3635280"/>
              <a:ext cx="461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27680" y="35733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27200" y="3636720"/>
              <a:ext cx="46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11280" y="4560840"/>
            <a:ext cx="2390040" cy="488160"/>
            <a:chOff x="611280" y="4560840"/>
            <a:chExt cx="2390040" cy="488160"/>
          </a:xfrm>
        </p:grpSpPr>
        <p:grpSp>
          <p:nvGrpSpPr>
            <p:cNvPr id="122" name=""/>
            <p:cNvGrpSpPr/>
            <p:nvPr/>
          </p:nvGrpSpPr>
          <p:grpSpPr>
            <a:xfrm>
              <a:off x="611280" y="4560840"/>
              <a:ext cx="2390040" cy="488160"/>
              <a:chOff x="611280" y="4560840"/>
              <a:chExt cx="2390040" cy="488160"/>
            </a:xfrm>
          </p:grpSpPr>
          <p:sp>
            <p:nvSpPr>
              <p:cNvPr id="123" name=""/>
              <p:cNvSpPr/>
              <p:nvPr/>
            </p:nvSpPr>
            <p:spPr>
              <a:xfrm>
                <a:off x="611280" y="4560840"/>
                <a:ext cx="108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1 &l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332000" y="4575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33360" y="4575240"/>
                <a:ext cx="86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&lt;  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23640" y="4589280"/>
                <a:ext cx="34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1565280" y="4653000"/>
              <a:ext cx="52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12360" y="2011320"/>
            <a:ext cx="64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Find the value of the whol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454176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number will be between 11 and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97000" y="1447920"/>
            <a:ext cx="8694720" cy="459720"/>
            <a:chOff x="297000" y="1447920"/>
            <a:chExt cx="8694720" cy="459720"/>
          </a:xfrm>
        </p:grpSpPr>
        <p:sp>
          <p:nvSpPr>
            <p:cNvPr id="131" name=""/>
            <p:cNvSpPr/>
            <p:nvPr/>
          </p:nvSpPr>
          <p:spPr>
            <a:xfrm>
              <a:off x="297000" y="1447920"/>
              <a:ext cx="869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pproximate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√135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to the nearest hundredth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32120" y="1488960"/>
              <a:ext cx="673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3360" y="64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8520" y="247320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5 – 121 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6880" y="29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0000" y="535320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 ÷ 23 ≈ 0.6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18040" y="2244600"/>
            <a:ext cx="592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Find the difference between the given number, 135, and the lower perfect squ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31480" y="125424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97000" y="1254240"/>
            <a:ext cx="8694720" cy="459720"/>
            <a:chOff x="297000" y="1254240"/>
            <a:chExt cx="8694720" cy="459720"/>
          </a:xfrm>
        </p:grpSpPr>
        <p:sp>
          <p:nvSpPr>
            <p:cNvPr id="140" name=""/>
            <p:cNvSpPr/>
            <p:nvPr/>
          </p:nvSpPr>
          <p:spPr>
            <a:xfrm>
              <a:off x="297000" y="1254240"/>
              <a:ext cx="869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pproximate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√135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to the nearest hundredth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32120" y="1295280"/>
              <a:ext cx="673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95440" y="1787400"/>
            <a:ext cx="54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Find the value of the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466416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the difference as a ra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3200" y="357192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4 – 121 =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22720" y="3343320"/>
            <a:ext cx="554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Find the difference between the greater perfect square and the lower perfect squ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0120" y="4530600"/>
            <a:ext cx="6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51814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the approximate decimal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3360" y="60840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7800" y="281952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+ 0.609 = 11.6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6880" y="28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46640" y="2682720"/>
            <a:ext cx="51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Combine the whole number and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0600" y="2057400"/>
            <a:ext cx="52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Find the approximate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8480" y="380988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60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11.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89480" y="3778200"/>
            <a:ext cx="54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ound to the nearest hundred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57200" y="4800600"/>
            <a:ext cx="8244000" cy="764280"/>
            <a:chOff x="457200" y="4800600"/>
            <a:chExt cx="8244000" cy="764280"/>
          </a:xfrm>
        </p:grpSpPr>
        <p:sp>
          <p:nvSpPr>
            <p:cNvPr id="156" name=""/>
            <p:cNvSpPr/>
            <p:nvPr/>
          </p:nvSpPr>
          <p:spPr>
            <a:xfrm>
              <a:off x="457200" y="4800600"/>
              <a:ext cx="824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The approximate value of   135 to the nearest hundredth is 11.61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198680" y="4865760"/>
              <a:ext cx="873000" cy="247680"/>
              <a:chOff x="4198680" y="4865760"/>
              <a:chExt cx="873000" cy="247680"/>
            </a:xfrm>
          </p:grpSpPr>
          <p:sp>
            <p:nvSpPr>
              <p:cNvPr id="158" name=""/>
              <p:cNvSpPr/>
              <p:nvPr/>
            </p:nvSpPr>
            <p:spPr>
              <a:xfrm>
                <a:off x="4234320" y="4933800"/>
                <a:ext cx="12276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4198680" y="4926960"/>
                <a:ext cx="42120" cy="26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4352040" y="4865760"/>
                <a:ext cx="187920" cy="247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535640" y="4868640"/>
                <a:ext cx="536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297000" y="1254240"/>
            <a:ext cx="8694720" cy="459720"/>
            <a:chOff x="297000" y="1254240"/>
            <a:chExt cx="8694720" cy="459720"/>
          </a:xfrm>
        </p:grpSpPr>
        <p:sp>
          <p:nvSpPr>
            <p:cNvPr id="163" name=""/>
            <p:cNvSpPr/>
            <p:nvPr/>
          </p:nvSpPr>
          <p:spPr>
            <a:xfrm>
              <a:off x="297000" y="1254240"/>
              <a:ext cx="869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pproximate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√135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to the nearest hundredth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32120" y="1295280"/>
              <a:ext cx="673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609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Using a Calculator to Estimate the Value of a Squar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040" y="1571760"/>
            <a:ext cx="7597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Use a calculator to find    600. Round to the nearest tent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138280" y="1633680"/>
            <a:ext cx="1109880" cy="317520"/>
            <a:chOff x="5138280" y="1633680"/>
            <a:chExt cx="1109880" cy="317520"/>
          </a:xfrm>
        </p:grpSpPr>
        <p:sp>
          <p:nvSpPr>
            <p:cNvPr id="168" name=""/>
            <p:cNvSpPr/>
            <p:nvPr/>
          </p:nvSpPr>
          <p:spPr>
            <a:xfrm>
              <a:off x="5183640" y="1720800"/>
              <a:ext cx="15624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138280" y="1712160"/>
              <a:ext cx="53640" cy="3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333040" y="1633680"/>
              <a:ext cx="239040" cy="31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66680" y="1637280"/>
              <a:ext cx="68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69960" y="3475080"/>
            <a:ext cx="39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 ≈ 2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61760" y="2743200"/>
            <a:ext cx="3429720" cy="459720"/>
            <a:chOff x="761760" y="2743200"/>
            <a:chExt cx="3429720" cy="459720"/>
          </a:xfrm>
        </p:grpSpPr>
        <p:sp>
          <p:nvSpPr>
            <p:cNvPr id="174" name=""/>
            <p:cNvSpPr/>
            <p:nvPr/>
          </p:nvSpPr>
          <p:spPr>
            <a:xfrm>
              <a:off x="886680" y="2743200"/>
              <a:ext cx="330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00 ≈ 24.494897…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761760" y="2803320"/>
              <a:ext cx="860400" cy="317520"/>
              <a:chOff x="761760" y="2803320"/>
              <a:chExt cx="860400" cy="317520"/>
            </a:xfrm>
          </p:grpSpPr>
          <p:sp>
            <p:nvSpPr>
              <p:cNvPr id="176" name=""/>
              <p:cNvSpPr/>
              <p:nvPr/>
            </p:nvSpPr>
            <p:spPr>
              <a:xfrm>
                <a:off x="796680" y="2890440"/>
                <a:ext cx="121320" cy="22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761760" y="2881800"/>
                <a:ext cx="41400" cy="3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912600" y="2803320"/>
                <a:ext cx="185400" cy="31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94040" y="2806920"/>
                <a:ext cx="528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762120" y="3537000"/>
            <a:ext cx="926640" cy="317520"/>
            <a:chOff x="762120" y="3537000"/>
            <a:chExt cx="926640" cy="317520"/>
          </a:xfrm>
        </p:grpSpPr>
        <p:sp>
          <p:nvSpPr>
            <p:cNvPr id="181" name=""/>
            <p:cNvSpPr/>
            <p:nvPr/>
          </p:nvSpPr>
          <p:spPr>
            <a:xfrm>
              <a:off x="799560" y="3624120"/>
              <a:ext cx="1306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62120" y="3615480"/>
              <a:ext cx="44640" cy="3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924480" y="3537000"/>
              <a:ext cx="199800" cy="31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19600" y="3540600"/>
              <a:ext cx="56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650840" y="275256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Use a calcul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34290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ound to the nearest ten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4572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 rounded to the nearest tenth is 24.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77960" y="4633920"/>
            <a:ext cx="926640" cy="317520"/>
            <a:chOff x="777960" y="4633920"/>
            <a:chExt cx="926640" cy="317520"/>
          </a:xfrm>
        </p:grpSpPr>
        <p:sp>
          <p:nvSpPr>
            <p:cNvPr id="189" name=""/>
            <p:cNvSpPr/>
            <p:nvPr/>
          </p:nvSpPr>
          <p:spPr>
            <a:xfrm>
              <a:off x="815400" y="4721040"/>
              <a:ext cx="1306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77960" y="4712400"/>
              <a:ext cx="44640" cy="3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940320" y="4633920"/>
              <a:ext cx="199800" cy="31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35440" y="4637520"/>
              <a:ext cx="56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3:56:17Z</dcterms:created>
  <dc:creator/>
  <dc:description/>
  <dc:language>en-US</dc:language>
  <cp:lastModifiedBy>Miller Teacher</cp:lastModifiedBy>
  <dcterms:modified xsi:type="dcterms:W3CDTF">2010-11-04T18:18:45Z</dcterms:modified>
  <cp:revision>156</cp:revision>
  <dc:subject/>
  <dc:title>PowerPoint Presentation</dc:title>
</cp:coreProperties>
</file>